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314-5C98-48CC-A227-25A75476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E84-A850-475D-822E-38191C44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66B-5397-41D5-95A7-637286F3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A28-7FF9-4833-ABB2-390D28A8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CF5-9E64-43C0-AAFC-E6D2E792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DB8-C501-4D08-A272-37C3E723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F52-E076-4DC1-A3CF-8C0719B5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9E2-063A-4B14-9A7E-68D0A2C3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05E-3F50-4335-8088-3D3C5E8A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574-946A-4B72-9658-8FEF2BF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0B0-401C-40EB-9B85-5A558059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71C-1C19-423A-A1C7-B95A4639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ECA9-A6C3-496B-A5EF-0B27754C7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-archiv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0"/>
            <a:ext cx="5486400" cy="407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licopter Innovatio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502920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2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0200" y="62485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 Play Mus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ouncing,5/7/2010,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76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Kaman"/>
          <p:cNvPicPr/>
          <p:nvPr/>
        </p:nvPicPr>
        <p:blipFill>
          <a:blip r:embed="rId1"/>
          <a:srcRect l="0" t="0" r="69932" b="0"/>
          <a:stretch/>
        </p:blipFill>
        <p:spPr>
          <a:xfrm>
            <a:off x="380880" y="380880"/>
            <a:ext cx="3314880" cy="2822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Kaman"/>
          <p:cNvPicPr/>
          <p:nvPr/>
        </p:nvPicPr>
        <p:blipFill>
          <a:blip r:embed="rId2"/>
          <a:srcRect l="62310" t="0" r="-4514" b="46953"/>
          <a:stretch/>
        </p:blipFill>
        <p:spPr>
          <a:xfrm>
            <a:off x="4191120" y="3624120"/>
            <a:ext cx="3962160" cy="2548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14800" y="838080"/>
            <a:ext cx="4114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baekeland 2/28/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-archiv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Helico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ver 50 years Charles 4 Hamannas baon as leading inventor and bus ess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elicopter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ie Kamans has won the awards for his work of the in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cluding the service in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medal of the techolgy in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memorial was build in 1997 and jan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s name: Charles Ka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man was born in 19/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rew up in Washington 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arned a BS in a aeronautical engineering from catholic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ent to work  at Hamilton standard where he lined helicopter indus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for his invention the Helicopter i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8:54Z</dcterms:created>
  <dc:creator>install</dc:creator>
  <dc:description/>
  <dc:language>en-US</dc:language>
  <cp:lastModifiedBy>install</cp:lastModifiedBy>
  <dcterms:modified xsi:type="dcterms:W3CDTF">2011-03-11T18:31:38Z</dcterms:modified>
  <cp:revision>8</cp:revision>
  <dc:subject/>
  <dc:title>Slide 1</dc:title>
</cp:coreProperties>
</file>